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drumroll.wav" ContentType="audio/x-wav"/>
  <Override PartName="/ppt/media/image3.jpeg" ContentType="image/jpeg"/>
  <Override PartName="/ppt/media/image19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image2.jpeg" ContentType="image/jpeg"/>
  <Override PartName="/ppt/media/push.wav" ContentType="audio/x-wav"/>
  <Override PartName="/ppt/media/laser.wav" ContentType="audio/x-wav"/>
  <Override PartName="/ppt/media/image14.jpeg" ContentType="image/jpeg"/>
  <Override PartName="/ppt/media/coin.wav" ContentType="audio/x-wav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5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8924-88B8-4988-9140-1A995C29EDCC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0E2FD-837B-44F8-B2B2-26C5DC78178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698A-8622-4E28-AAEB-A14546365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081D-D91E-4860-807B-261720BF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D384-3695-44F0-A112-D97ACC0E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2492-11C9-481F-B6B2-F24B5E74D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1FE4A-8A6A-4FEE-874B-ACAA1B5D2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B2571-B607-410A-9D2D-5DECDEA7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C3FE-889B-4334-A14D-B5CB168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87004-AD05-4C07-A448-423CC879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823F-AC22-4CB6-AE14-628DCABE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09032-A350-4A3D-ABD9-78A42342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FA6A2-A7E3-4EE9-AAC2-FB261BEA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848B-0C2B-4212-A34B-2DD9B4CD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68719-17EB-4357-8212-CB2456A6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8F9B-D978-4373-9FA7-52FB38E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3AA42-2910-47E8-ABCA-CEEFF883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24D8D-64DB-41B1-A271-B7E36EF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8A89F-6ACE-4BDC-AD26-6935331EE8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4EBF-83B8-49CE-9CF0-3B8380DD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E2A5-2CB3-4D4C-8151-514469FA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26DE-CB80-4290-8471-52761540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BE07-5F36-454D-A25E-9378A38F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F4AB-B67C-4D87-9F5A-827EB2C1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8D2E-8FA3-413E-8920-C1F9D16E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E140-9138-4B3A-A7BD-F40E260C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976E7-4318-4E05-9A99-82F74AD9ABC5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>
                  <a:gd name="textAreaLeft" fmla="*/ 0 w 535320"/>
                  <a:gd name="textAreaRight" fmla="*/ 535680 w 5353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>
                  <a:gd name="textAreaLeft" fmla="*/ 0 w 1095480"/>
                  <a:gd name="textAreaRight" fmla="*/ 1095840 w 1095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>
                <a:gd name="textAreaLeft" fmla="*/ 0 w 1562400"/>
                <a:gd name="textAreaRight" fmla="*/ 1562760 w 156240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3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7777E-53F3-44CC-B078-609980FF6BE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6" Type="http://schemas.openxmlformats.org/officeDocument/2006/relationships/image" Target="../media/image11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us.org/files/images/russia-fla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360036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The Present Day Is Always Tougher In Mother Russi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5105520"/>
            <a:ext cx="6400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6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-304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867280" y="114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3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5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0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1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190760" cy="3200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lackadder ITC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lackadder ITC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4190760" cy="3195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lus/>
    <p:sndAc>
      <p:stSnd>
        <p:snd r:embed="rId4" name="wind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dur="indefinite" fill="hold">
                      <p:stCondLst>
                        <p:cond delay="indefinite"/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dur="indefinite" fill="hold">
                      <p:stCondLst>
                        <p:cond delay="indefinite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dur="indefinite" fill="hold">
                      <p:stCondLst>
                        <p:cond delay="indefinite"/>
                      </p:stCondLst>
                      <p:childTnLst>
                        <p:par>
                          <p:cTn id="4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fill="hold">
                      <p:stCondLst>
                        <p:cond delay="indefinite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12193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Only 15% of the urban population breathes clean, safe ai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Factories put most of the toxic substances in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Acid rain from Europe and Siberia has shortened the Siberian forests’ size by an estimated 730,000 hectares</a:t>
            </a: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-1143000" y="6095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 rot="19620000">
            <a:off x="1415520" y="274284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 rot="19500000">
            <a:off x="1407600" y="2741760"/>
            <a:ext cx="64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rot="19320000">
            <a:off x="3110040" y="27824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2" name="coin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371600"/>
            <a:ext cx="82296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Lowest recorded temperature is -93°C (THAT’S REALLY COLD!!!!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Your breath will immeditately freeze in the air in some part of Russia </a:t>
            </a:r>
            <a:r>
              <a:rPr b="0" lang="en-US" sz="2400" spc="-1" strike="noStrike">
                <a:solidFill>
                  <a:srgbClr val="cc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In the winter, some of the land is in total darkness for over six months of th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Capital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Largest City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Area: 17, 075, 400 Square Kilometers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Official Languages: Russian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Government: Federal Republic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esident –Dmitry Medvedev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ime Minister – Vladmir Putin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opulation: 142, 400, 000 (2006 est.</a:t>
            </a:r>
            <a:r>
              <a:rPr b="0" lang="en-US" sz="2400" spc="-1" strike="noStrike">
                <a:solidFill>
                  <a:srgbClr val="ccff66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push.wav"/>
      </p:stSnd>
    </p:sndAc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dur="indefinite" fill="hold">
                      <p:stCondLst>
                        <p:cond delay="indefinite"/>
                      </p:stCondLst>
                      <p:childTnLst>
                        <p:par>
                          <p:cTn id="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fill="hold">
                      <p:stCondLst>
                        <p:cond delay="indefinite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049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Mr. griffith and Mr. O'bri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nformation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s you can see, IT’s ALWAYS tougher in present day Russ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8288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dur="indefinite" fill="hold">
                      <p:stCondLst>
                        <p:cond delay="indefinite"/>
                      </p:stCondLst>
                      <p:childTnLst>
                        <p:par>
                          <p:cTn id="5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2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21T02:33:34Z</dcterms:modified>
  <cp:revision>29</cp:revision>
  <dc:subject/>
  <dc:title>Present Day Russia</dc:title>
</cp:coreProperties>
</file>